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9.wmf" ContentType="image/x-wmf"/>
  <Override PartName="/ppt/media/image6.jpeg" ContentType="image/jpeg"/>
  <Override PartName="/ppt/media/image7.wmf" ContentType="image/x-wmf"/>
  <Override PartName="/ppt/media/image8.png" ContentType="image/png"/>
  <Override PartName="/ppt/media/image10.wmf" ContentType="image/x-wmf"/>
  <Override PartName="/ppt/media/image11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96868-7CF7-4FA0-A6FD-BA0727E9D9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2725F-92FB-4C84-82F3-DF1579F2A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5E3B9-6353-48C7-BCB0-F1DE51ED51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2CBBB-53D5-4939-A91B-6834495857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8C3A6-5113-4D94-9A4D-D7A6D528E0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6245D-BE8D-4B95-B891-667C5829CC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6464C-E588-4233-8ACD-4D6C9AF606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930CC-A224-410A-AB01-96D8B9744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CAE86-8B84-40FC-90EE-BA767A53F6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B5D9B-15F2-44E4-A975-0C45EB9E8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AF5AE-C308-4485-B0FF-A3F5891FB2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24438-BEC3-49D1-8AA5-26C57A637E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7DE4B-AE41-4B0B-9A7E-128C84FB94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A07E4-8699-4D73-BA79-3877EBFE1F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CB587-B8AC-41D1-A587-0170604EE8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FC32A-3ED8-42BF-84EF-323EFC4453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8D26F-9FEB-48D2-8669-F615EEFB9C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855EA-69F5-494A-B6E7-5D5A9709EC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F3A84-3C75-4390-8DFA-3274474656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57968-ABC2-4873-91D7-4FC28879D7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6F46B-086C-421B-8E08-0BA6B9479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24FC8-DE56-4BA8-974B-CA82E453CB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31149-9421-4E74-AB38-FE9F8A3AC0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3ACAB-E656-410F-B013-C411401BCE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3CB73-42F5-4B98-8349-F1CA80B63A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9FAC7-711B-44D0-A133-CFD1A11A7F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F26DB-B4ED-4BE2-A690-66FE95161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90CC3-866E-4CFC-AB3F-E8A89AB467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BD0B8-98C2-420C-8A11-4E2F6BC44B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3D7C9-359B-4797-8031-8CECBE9891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573C9-05D9-42BA-A8AC-77B9CD670D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97AE0-AC0B-427A-827B-32E40AEAA6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DA27D-2396-4F5B-B5B8-604A5A9DBF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24016-7A3F-4B46-9CFF-2A9975DEE1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6754A-AFA8-43EA-9E66-0E22C5DA52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DA4B-D23E-4941-8A15-52A7DCEDC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8EA2-64CB-4B1C-917F-E7EE77030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75CB-BC7A-4B31-BAE8-D26F71A7D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4A50-619E-4A9C-8DE6-6D53804C2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8B87-9AA7-40D2-B2CC-3F332EAD9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86A4-0EE7-480D-B020-CFEB9B822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BAE7-1D07-435C-912F-E12875DEB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8D98-2EDC-401E-BE33-FA76753D3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9DD8-4968-437E-8C3E-14132CC8F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BBDB-B923-4350-8004-A730159CA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03AA-5756-4743-8179-DF9BDEB60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4BF2-D1B9-43E2-B83B-51DE751BB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AF88E-7927-4FE2-A437-F5D012367BC5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95C02-9888-4905-95C1-EC11D2747DB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image" Target="../media/image9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304920" y="6245280"/>
            <a:ext cx="8370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AF4EA-908A-4D23-8310-DCC216D8AD6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F7FF1-1635-4F00-9FA3-E1A143F189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Date Placeholder 3"/>
          <p:cNvSpPr/>
          <p:nvPr/>
        </p:nvSpPr>
        <p:spPr>
          <a:xfrm>
            <a:off x="30492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72A29-0AAE-44C5-8711-D39F65747529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lide Number Placeholder 5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1BA92-8721-4945-8E6E-0C3569376C8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Žan Eskirol (1772-1840) zalaže se za Zakon o zaštiti duševnih bolesnika i izgradnju prikladnih psihijatrijskih ustanova. Eskirol je bio i prvi predavač psihijatrije, on usavršava Pinelovu klasifikaciju i organizuje terapiju mentalnih poremećaja. Ovo je period kada po pitanju etiologije dominira </a:t>
            </a:r>
            <a:r>
              <a:rPr b="0" i="1" lang="sr-Latn-CS" sz="2800" spc="-1" strike="noStrike">
                <a:solidFill>
                  <a:srgbClr val="ffffff"/>
                </a:solidFill>
                <a:latin typeface="Arial"/>
              </a:rPr>
              <a:t>eklekticizam.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Navode se traume glave, intoksikacije, venerična oboljenja, snažne emocije kao mogući uzroci psihijatrijskih oboljenj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39000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Date Placeholder 3"/>
          <p:cNvSpPr/>
          <p:nvPr/>
        </p:nvSpPr>
        <p:spPr>
          <a:xfrm>
            <a:off x="30492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2E50B-1D68-46C7-9ECE-BCC2E2A5036F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5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EBC43-9203-452E-99F4-C9800C1058E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Vilhelm Grizinger (1817-1868) smatra da svaki psihijatrijski bolesnik mora biti eksplorisan i neurološki. Njegovo shvatanje o tzv. jedinstvenoj psihozi (</a:t>
            </a:r>
            <a:r>
              <a:rPr b="0" i="1" lang="sr-Latn-CS" sz="2800" spc="-1" strike="noStrike">
                <a:solidFill>
                  <a:srgbClr val="ffffff"/>
                </a:solidFill>
                <a:latin typeface="Arial"/>
              </a:rPr>
              <a:t>Einheipsychose)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predstavlja temelj buduće naučne psihijatrije. Prema Grizingeru razni uzroci mogu biti razlog za jedinstvenu psihozu a oblici psihotičnog ispoljavanja predstavljaju  samo stanje u toku jednog jedinstvenog morbogenog proces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30000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Date Placeholder 3"/>
          <p:cNvSpPr/>
          <p:nvPr/>
        </p:nvSpPr>
        <p:spPr>
          <a:xfrm>
            <a:off x="30492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F5013-2D5B-43D6-94B7-15F6C04A6071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5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7E081-538A-41DA-A683-EE78EC10228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Morel (1809-1873) je tvorac teorije o degeneraciji u psihijatrij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On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stvara učenje zasnovano na genetičkim premisama da, usled delovanja različitih morbogenih faktora, nastaje progresivna psihička degeneracija, koja iz generacije u generaciju sve više osiromašuje porodice po pitanju sve izraženije ekspresije niza mentalnih oboljenj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23000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Date Placeholder 3"/>
          <p:cNvSpPr/>
          <p:nvPr/>
        </p:nvSpPr>
        <p:spPr>
          <a:xfrm>
            <a:off x="30492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A6FD5-9498-418E-96B2-ACBF9AD7C225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5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DB88E-A598-48BC-ABE8-3C8ABCC156A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Emil Krepelin (1855-1926)  smatra da je psihijatrijska bolest skup simptoma-</a:t>
            </a:r>
            <a:r>
              <a:rPr b="0" i="1" lang="sr-Latn-CS" sz="3200" spc="-1" strike="noStrike">
                <a:solidFill>
                  <a:srgbClr val="ffffff"/>
                </a:solidFill>
                <a:latin typeface="Arial"/>
              </a:rPr>
              <a:t>sindrom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. On je rodonačelnik tzv. psihijatrije toka (posebno analize toka shizofrenije), kao i pojma funkcionalne psihoze koja podrazumeva nemogućnost anatomskog definisanja nekog oboljenj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24000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Date Placeholder 3"/>
          <p:cNvSpPr/>
          <p:nvPr/>
        </p:nvSpPr>
        <p:spPr>
          <a:xfrm>
            <a:off x="30492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E03CC-56AA-403D-9F0B-281DE2390E2C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5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E774B-C35C-4F60-ACB2-2B11B697CAF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Tvorac psihoanalize Sigmund Frojd (1856-1939) stvara originalni psihoanalitički metod i svoju topografsko-strukturalnu teoriju sa instancama ega, ida i superega. On revolucionarno menja klasičnu krepelinovsku psihijatriju unoseći novi duh i nove teorijske ali terapijske modalite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28000"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Date Placeholder 3"/>
          <p:cNvSpPr/>
          <p:nvPr/>
        </p:nvSpPr>
        <p:spPr>
          <a:xfrm>
            <a:off x="30492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72D8A-BFEC-497F-ADF2-F88FFEC7220E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5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298CB-D598-41C2-AEC7-AC760F3EC8C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Eugen Blojler (1857-1939) s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zalagao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za Frojdovu teoriju kao i psihoterapiju, posebno u tretmanu teških psihijatrijskih poremećaja poput shizofrenije. On je dotadašnji naziv </a:t>
            </a:r>
            <a:r>
              <a:rPr b="0" i="1" lang="sr-Latn-CS" sz="3200" spc="-1" strike="noStrike">
                <a:solidFill>
                  <a:srgbClr val="ffffff"/>
                </a:solidFill>
                <a:latin typeface="Arial"/>
              </a:rPr>
              <a:t>Demencija prekoks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zamenio nazivom shizofrenija, koji znači rascep duševnog života.Time je ozvaničio činjenicu da demencija prekoks nema unapred negativan tok već da je moguć benigan tok i izlečenj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29000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Date Placeholder 3"/>
          <p:cNvSpPr/>
          <p:nvPr/>
        </p:nvSpPr>
        <p:spPr>
          <a:xfrm>
            <a:off x="30492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F38FB-1D63-414C-89CA-D046B8703F42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5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78582-EF8E-467D-8342-45FD23DD355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očetkom XX veka, razmatraju se neke fundamentalne dileme u okviru psihijatrijske teorije i prakse kao što su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organicizam ili psihoanaliza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unutrašnji (endogeni) ili spoljašnji (egzogeni) faktori u etiopatogenezi mentalnih oboljen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razvijaju se refleksologija i fenomenolog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23000"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Date Placeholder 3"/>
          <p:cNvSpPr/>
          <p:nvPr/>
        </p:nvSpPr>
        <p:spPr>
          <a:xfrm>
            <a:off x="30492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8DCC3-F009-4DC9-BB7C-7452753F07DA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5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A2BBE-FBCC-4B3D-8953-2451E7575B8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Nakon završetka II svetskog rata Svetska zdravstvena organizacija unosi niz modifikacija, između ostalog i u organizaciju rada psihijatrijske službe. Duševno zdravlje postaje briga celokupnog društva, svake društvene zajednice. Metodama lečenja sasvim ravnopravno priključuje se i </a:t>
            </a:r>
            <a:r>
              <a:rPr b="0" i="1" lang="sr-Latn-CS" sz="3200" spc="-1" strike="noStrike">
                <a:solidFill>
                  <a:srgbClr val="ffffff"/>
                </a:solidFill>
                <a:latin typeface="Arial"/>
              </a:rPr>
              <a:t>socioterapija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u skladu sa dimenzimaja i sadržinom rada tzv. </a:t>
            </a:r>
            <a:r>
              <a:rPr b="0" i="1" lang="sr-Latn-CS" sz="3200" spc="-1" strike="noStrike">
                <a:solidFill>
                  <a:srgbClr val="ffffff"/>
                </a:solidFill>
                <a:latin typeface="Arial"/>
              </a:rPr>
              <a:t>socijalne psihijatrij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27000"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Date Placeholder 3"/>
          <p:cNvSpPr/>
          <p:nvPr/>
        </p:nvSpPr>
        <p:spPr>
          <a:xfrm>
            <a:off x="30492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9FD96-DEC3-4082-98BA-97FAB3541863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5C236-EA20-425B-92ED-05ADC2FFFB4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Navešćemo neka od najznačajnijih naučnih dostignuća koja su unapredila, humanizovala i modifikovala savremenu psihijatrijsku nauku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0" name="Object 7"/>
          <p:cNvGraphicFramePr/>
          <p:nvPr/>
        </p:nvGraphicFramePr>
        <p:xfrm>
          <a:off x="0" y="4221000"/>
          <a:ext cx="9144000" cy="123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221000"/>
                    <a:ext cx="9144000" cy="12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3"/>
          <p:cNvSpPr/>
          <p:nvPr/>
        </p:nvSpPr>
        <p:spPr>
          <a:xfrm>
            <a:off x="30492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06461-2DDA-4CAE-A9EC-A2E35FD0093C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5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584E6-C1E2-4E32-BD4B-B8FC82C75FD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1952. Žan Dele i Pjer Deniker izveštavaju o efektima hlorpromazina, prvog neuroleptik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1970. Kac Bernard dobija Nobelovu nagradu za otkriće neurotransmitera u nervnom sistem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1977. godine dobijaju Nobelovu nagradu Rođer Guljemin i  Viktor Šali za otkriće neuropetida u moždanom tkivu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1979. godine Kormak Mekload i Godfri Njubold dobijaju Nobelovu nagradu za otkriće kompjuter-asistirane tomografi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39000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ffffff"/>
                </a:solidFill>
                <a:latin typeface="Arial"/>
              </a:rPr>
              <a:t>Istorijski razvoj psihijatrij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Arial"/>
              </a:rPr>
              <a:t>Prof dr Minja Jovanovi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Arial"/>
              </a:rPr>
              <a:t>Fakultet medicinskih nau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Date Placeholder 3"/>
          <p:cNvSpPr/>
          <p:nvPr/>
        </p:nvSpPr>
        <p:spPr>
          <a:xfrm>
            <a:off x="30492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EBE37-4950-4364-9AD9-8643756AF8E1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5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1F606-E4B2-4EC1-9D78-4776F2259DF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1981. Volkot Speri otkriva neuropsihološke specifičnosti funkcije leve i desne hemisf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2000. godine Arvid Karlson sa Grinardom i Kendelom dobija Nobelovu nagradu za  pionirski rad koji se tiče izučuvanja dopaminskog sistema i sprovođenja signala u CNS-u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22000">
    <p:newsflash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Date Placeholder 3"/>
          <p:cNvSpPr/>
          <p:nvPr/>
        </p:nvSpPr>
        <p:spPr>
          <a:xfrm>
            <a:off x="30492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F124C-D1A7-4357-8387-E419437F9594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5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B999F-F7D4-4506-AC5C-D2588B58576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Izvesno je da na osnovu razvoja psihijatrijske misli i nauke ne možemo postaviti jedinstvenu etiopatogenetsku koncepciju mentalnih oboljenj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7000">
    <p:newsflash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3"/>
          <p:cNvSpPr/>
          <p:nvPr/>
        </p:nvSpPr>
        <p:spPr>
          <a:xfrm>
            <a:off x="30492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E2FA4-FB0E-46AF-A438-0FF9D06921E9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1E5A9-D64B-4D9A-A000-FF5665ADB2C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Upravo raznovrsnost teorijskih ali i egzaktno naučnih dostignuća govore u prilog tome da u tumačenju psihičkih poremećaja moramo primeniti multifaktorijalne teorije koje su sinteza bio-psiho-socijalnih faktora, što ujedno i predstavlja integrativni trend ne samo u savremenoj psihijatriji već i u medicini uopš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23000">
    <p:newsflash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ffff"/>
                </a:solidFill>
                <a:latin typeface="Arial"/>
              </a:rPr>
              <a:t>PSIHIJATRIJA, PSIHOPATOLOGIJA, PSIHOLOGIJ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ffff"/>
                </a:solidFill>
                <a:latin typeface="Arial"/>
              </a:rPr>
              <a:t>PSIHIJATRIJA se bavi nastankom, razvitkom, kliničkom slikom i lečenjem psihičkih poremećaja i bolest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186920" y="4508640"/>
            <a:ext cx="6689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PSIHIJAT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6000">
    <p:newsflash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ffff"/>
                </a:solidFill>
                <a:latin typeface="Arial"/>
              </a:rPr>
              <a:t>GRANE PSIHIJATRIJE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Dečja i adolescentna psihijatr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Gerontopsihijatr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Biol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š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ka psihijatr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Socijalna psihijatr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Komunalna psihijatr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Ratna psihijatr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Sudska psihijatr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Transkulturalna psihijatr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5" descr="xtztx"/>
          <p:cNvPicPr/>
          <p:nvPr/>
        </p:nvPicPr>
        <p:blipFill>
          <a:blip r:embed="rId1"/>
          <a:stretch/>
        </p:blipFill>
        <p:spPr>
          <a:xfrm>
            <a:off x="6659640" y="3068640"/>
            <a:ext cx="2052720" cy="2664000"/>
          </a:xfrm>
          <a:prstGeom prst="rect">
            <a:avLst/>
          </a:prstGeom>
          <a:ln w="0">
            <a:noFill/>
          </a:ln>
        </p:spPr>
      </p:pic>
    </p:spTree>
  </p:cSld>
  <p:transition advTm="19000">
    <p:newsflash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ffff"/>
                </a:solidFill>
                <a:latin typeface="Arial"/>
              </a:rPr>
              <a:t>PRISTUPI U SUVREMENOJ PSIHIJATRIJ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5280" y="24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3000" spc="-1" strike="noStrike">
                <a:solidFill>
                  <a:srgbClr val="ffffff"/>
                </a:solidFill>
                <a:latin typeface="Arial"/>
              </a:rPr>
              <a:t>Biološki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3000" spc="-1" strike="noStrike">
                <a:solidFill>
                  <a:srgbClr val="ffffff"/>
                </a:solidFill>
                <a:latin typeface="Arial"/>
              </a:rPr>
              <a:t>Psihološki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3000" spc="-1" strike="noStrike">
                <a:solidFill>
                  <a:srgbClr val="ffffff"/>
                </a:solidFill>
                <a:latin typeface="Arial"/>
              </a:rPr>
              <a:t>Socijalni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8000">
    <p:newsflash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ffff"/>
                </a:solidFill>
                <a:latin typeface="Arial"/>
              </a:rPr>
              <a:t>OSNOVNA TERMINOLOGIJ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4920" y="1698480"/>
            <a:ext cx="8497800" cy="475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tom -  subjektivni znak bolest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nak 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bjektivna promena u ponašanju pojedin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drom - skup simptoma koji se javlja u boles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kutno - bolest ili stanje koja se pojavljuje naglo i kratko traj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ronično - perzistentna bolest ili stanj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marni uzrok - za koga se pretpostavlja da je izazvao bol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disponirajući faktori - organizam im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dispozicije za razvoj boles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cipitirajući faktori - trig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g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 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faktori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kidač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oles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ržavajući faktori 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koji održavaju bol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omorbiditet 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tovremeno pojavljivanje dve ili više bolest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55000">
    <p:newsflash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ffff"/>
                </a:solidFill>
                <a:latin typeface="Arial"/>
              </a:rPr>
              <a:t>BIOLOŠKI (MEDICINSKI) MOD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is simpto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tavljanj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ijagnoze (prema 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sifikacijam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zmatranje etiologije (mogućeg uzroka bolest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pisivanj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erapij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dviđanj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anticipiranj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24000">
    <p:newsflash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44704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ffff"/>
                </a:solidFill>
                <a:latin typeface="Arial"/>
              </a:rPr>
              <a:t>DIJAGNOZA U PSIHIJATRIJI I SOMATSKOJ MEDICIN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Opisna (opisuje kliničku sliku): BAP (bipolarni afektivni poremećaj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Kategorijalna: shizofreni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2920" y="23320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Etiološka (objašnjava uzrok): krvarenje, upa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(-itis), prelo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36000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Date Placeholder 3"/>
          <p:cNvSpPr/>
          <p:nvPr/>
        </p:nvSpPr>
        <p:spPr>
          <a:xfrm>
            <a:off x="30492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EF463-964F-46B0-8588-6C5B7D606763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5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E27DC-43A6-435A-B061-6BAD9A22394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sihijatrija je grana medicine koja po svojoj istorijskoj „definiciji“ pre svega podrazumeva veštinu lečenja. Savremena psihijatrija je opšte prihvaćena stručno-naučna disciplina, koja u okviru patologije savremenog čovečanstva dobija sve značajnije mesto, a u okviru drugih medicinskih disciplina značajan interdisciplinarni položaj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24000">
    <p:newsflash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ffff"/>
                </a:solidFill>
                <a:latin typeface="Arial"/>
              </a:rPr>
              <a:t>PSIHIJATRIJSKI I TELESNI SIMPTOM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920" y="1844280"/>
            <a:ext cx="85788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Psihosomatika (ulkusna i ulcerozna bolest, arterijska hipertenzija, šećerna bolest, psorijaza, srčane bolesti, astma …)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Somatopsihika (reakcija na ozbiljnu telesnu bole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Telesne bolesti koje imitiraju sliku psihičkog poremeća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32000">
    <p:newsflash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8040" y="313920"/>
            <a:ext cx="7958160" cy="98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ffff"/>
                </a:solidFill>
                <a:latin typeface="Arial"/>
              </a:rPr>
              <a:t>BOLEST - ZDRAVLJ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sihičko zdravlje 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dsustvo bolesti, odnosno simpto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sihička boles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čovek je bolestan 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ak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ma simptome psihičke bolesti koji zadovoljavaju određene kriterijume (klasifikacijsk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5713560" y="1622520"/>
            <a:ext cx="1753920" cy="202860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5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Object 2"/>
          <p:cNvGraphicFramePr/>
          <p:nvPr/>
        </p:nvGraphicFramePr>
        <p:xfrm>
          <a:off x="7810560" y="2203560"/>
          <a:ext cx="307800" cy="307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10560" y="2203560"/>
                    <a:ext cx="307800" cy="30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7" name="Picture 7" descr=""/>
          <p:cNvPicPr/>
          <p:nvPr/>
        </p:nvPicPr>
        <p:blipFill>
          <a:blip r:embed="rId4"/>
          <a:stretch/>
        </p:blipFill>
        <p:spPr>
          <a:xfrm>
            <a:off x="5707080" y="4016520"/>
            <a:ext cx="1766880" cy="204444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8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Object 3"/>
          <p:cNvGraphicFramePr/>
          <p:nvPr/>
        </p:nvGraphicFramePr>
        <p:xfrm>
          <a:off x="7885080" y="4508640"/>
          <a:ext cx="304920" cy="304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0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885080" y="4508640"/>
                    <a:ext cx="30492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20000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ffffff"/>
                </a:solidFill>
                <a:latin typeface="Arial"/>
              </a:rPr>
              <a:t>LJUDI MOGU PATITI OD ISTIH SMETNJI I DOBITI RAZLIČITU DIJAGNOZU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2" name="Object 2"/>
          <p:cNvGraphicFramePr/>
          <p:nvPr/>
        </p:nvGraphicFramePr>
        <p:xfrm>
          <a:off x="1103400" y="1841400"/>
          <a:ext cx="6661080" cy="417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3400" y="1841400"/>
                    <a:ext cx="6661080" cy="417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Oval 4"/>
          <p:cNvSpPr/>
          <p:nvPr/>
        </p:nvSpPr>
        <p:spPr>
          <a:xfrm>
            <a:off x="2268360" y="5877000"/>
            <a:ext cx="50328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2916360" y="5950080"/>
            <a:ext cx="4032000" cy="581400"/>
          </a:xfrm>
          <a:prstGeom prst="rect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Depresivni simp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6"/>
          <p:cNvSpPr/>
          <p:nvPr/>
        </p:nvSpPr>
        <p:spPr>
          <a:xfrm>
            <a:off x="2843280" y="6237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7"/>
          <p:cNvSpPr/>
          <p:nvPr/>
        </p:nvSpPr>
        <p:spPr>
          <a:xfrm>
            <a:off x="0" y="2924280"/>
            <a:ext cx="1979640" cy="1366560"/>
          </a:xfrm>
          <a:prstGeom prst="cloudCallout">
            <a:avLst>
              <a:gd name="adj1" fmla="val 77986"/>
              <a:gd name="adj2" fmla="val -984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8"/>
          <p:cNvSpPr/>
          <p:nvPr/>
        </p:nvSpPr>
        <p:spPr>
          <a:xfrm>
            <a:off x="3348000" y="4797360"/>
            <a:ext cx="1943280" cy="129708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3708360" y="522936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lkoholič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0"/>
          <p:cNvSpPr/>
          <p:nvPr/>
        </p:nvSpPr>
        <p:spPr>
          <a:xfrm>
            <a:off x="6227640" y="4653000"/>
            <a:ext cx="1368720" cy="144000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6516720" y="522936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3300"/>
                </a:solidFill>
                <a:latin typeface="Arial"/>
              </a:rPr>
              <a:t>S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2"/>
          <p:cNvSpPr/>
          <p:nvPr/>
        </p:nvSpPr>
        <p:spPr>
          <a:xfrm>
            <a:off x="250920" y="3141720"/>
            <a:ext cx="13683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3300"/>
                </a:solidFill>
                <a:latin typeface="Arial"/>
              </a:rPr>
              <a:t>Nesre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ć</a:t>
            </a:r>
            <a:r>
              <a:rPr b="0" lang="hr-HR" sz="2000" spc="-1" strike="noStrike">
                <a:solidFill>
                  <a:srgbClr val="ff3300"/>
                </a:solidFill>
                <a:latin typeface="Arial"/>
              </a:rPr>
              <a:t>no zaljubljena plavuš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ffff"/>
                </a:solidFill>
                <a:latin typeface="Times New Roman"/>
              </a:rPr>
              <a:t>RAZLIČITE KLINIČKE SLIKE KOJE MOGU DOBITI ISTU DIJAGNOZU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4" name="Object 3"/>
          <p:cNvGraphicFramePr/>
          <p:nvPr/>
        </p:nvGraphicFramePr>
        <p:xfrm>
          <a:off x="1835280" y="1844640"/>
          <a:ext cx="6478560" cy="379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1844640"/>
                    <a:ext cx="6478560" cy="379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Line 4"/>
          <p:cNvSpPr/>
          <p:nvPr/>
        </p:nvSpPr>
        <p:spPr>
          <a:xfrm>
            <a:off x="3132000" y="486900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1908000" y="5734080"/>
            <a:ext cx="2519640" cy="1068840"/>
          </a:xfrm>
          <a:prstGeom prst="rect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egativna s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6"/>
          <p:cNvSpPr/>
          <p:nvPr/>
        </p:nvSpPr>
        <p:spPr>
          <a:xfrm>
            <a:off x="7380360" y="4581360"/>
            <a:ext cx="0" cy="792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6948360" y="5661000"/>
            <a:ext cx="115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5651640" y="5734080"/>
            <a:ext cx="2665440" cy="581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zitivna s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A PAŽNJ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Arial"/>
              </a:rPr>
              <a:t>HVAL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Date Placeholder 3"/>
          <p:cNvSpPr/>
          <p:nvPr/>
        </p:nvSpPr>
        <p:spPr>
          <a:xfrm>
            <a:off x="30492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6892B-3EA1-47F7-9423-FCED59DE2311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5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C5750-3BD4-49AE-97A8-F9967BFC504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rvi sistematični pomak u uslovno rečeno psihijatriji kao nauci čini Hipokrat (460-377 pne) koji je smatrao da su duševni poremećaji </a:t>
            </a:r>
            <a:r>
              <a:rPr b="0" i="1" lang="sr-Latn-CS" sz="3200" spc="-1" strike="noStrike">
                <a:solidFill>
                  <a:srgbClr val="ffffff"/>
                </a:solidFill>
                <a:latin typeface="Arial"/>
              </a:rPr>
              <a:t>poremećaji mozga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, a u skladu sa ovim shvatanjem predlaže i čitav niz terapijskih procedura (primena purgativa, obloga, kupke u sumpornoj vodi, kao i puštanje krvi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26000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Date Placeholder 3"/>
          <p:cNvSpPr/>
          <p:nvPr/>
        </p:nvSpPr>
        <p:spPr>
          <a:xfrm>
            <a:off x="30492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F3C27-1F5C-4F17-97E9-8A8259EB2394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5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4A176-9976-407D-AEAF-A6A0DFD3B0B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laton je nasuprot Aristotelu, smatrao da je sedište duše mozak a ne srce. Aristotel je u svom delu „O duši“ govorio o značaju emocija i opažanja odnosno o asocijaciji ideja, kao što je i ukazao na značaj tzv - </a:t>
            </a:r>
            <a:r>
              <a:rPr b="0" i="1" lang="sr-Latn-CS" sz="3200" spc="-1" strike="noStrike">
                <a:solidFill>
                  <a:srgbClr val="ffffff"/>
                </a:solidFill>
                <a:latin typeface="Arial"/>
              </a:rPr>
              <a:t>katarze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ili fenomena „psihičkog pražnjenja“ koji je kasnije našao i svoje mesto u teorijama Sigmunda Frojd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26000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Date Placeholder 3"/>
          <p:cNvSpPr/>
          <p:nvPr/>
        </p:nvSpPr>
        <p:spPr>
          <a:xfrm>
            <a:off x="30492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C20CF-3640-47ED-97F8-C840C6F21AD6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6C5E1-7911-479F-8E41-5F43C2784B4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U Srednjem veku posebno se ističe misao Tome Akvinskog koji govori o tri sloja psihičkog: vegetativnom (anima vegetativa) što bi približno odgovaralo autonomnom nervnom sistemu, senzitivnom (anima sensitiva) koja obuhvata opažanje, pamćenje, maštu, i intelektualnom (anima intellectiva) koja omogućava rešavanje problema i učenje iz iskustv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30000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Date Placeholder 3"/>
          <p:cNvSpPr/>
          <p:nvPr/>
        </p:nvSpPr>
        <p:spPr>
          <a:xfrm>
            <a:off x="30492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3A69B-C073-448F-BC27-0B72C3BC05CC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83240-FD9D-4A51-B4F6-F02AE51A466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Renesansa je iznedrila Paracelzijusa (1493-1541) koji je smatrao da su duševne bolesti posledica raznih  poremećenih hemijskih procesa. Ova prenaučna epoha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završava se sa 17 vekom kada se psihijatrija  nazivala </a:t>
            </a:r>
            <a:r>
              <a:rPr b="0" i="1" lang="sr-Latn-CS" sz="3200" spc="-1" strike="noStrike">
                <a:solidFill>
                  <a:srgbClr val="ffffff"/>
                </a:solidFill>
                <a:latin typeface="Arial"/>
              </a:rPr>
              <a:t>demonologij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23000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Date Placeholder 3"/>
          <p:cNvSpPr/>
          <p:nvPr/>
        </p:nvSpPr>
        <p:spPr>
          <a:xfrm>
            <a:off x="30492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4F1E3-274B-4762-B98D-CD002DBC295E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lide Number Placeholder 5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EB46A-0C97-4EAD-8643-196755E99F3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Naučnu epohu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započinje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Filip Pinel (1745-1826) koji se smatra reformatorom i čovekom koji je humanizovao odnos prema pacijentima u psihijatrijskim ustanovama. Ovo je doba Francuske revolucije koja ujedno označava i rađanje naučne psihijatrij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21000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Date Placeholder 3"/>
          <p:cNvSpPr/>
          <p:nvPr/>
        </p:nvSpPr>
        <p:spPr>
          <a:xfrm>
            <a:off x="30492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6FB38-F9AF-4AC9-9CF8-7CD251A6C9D8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lide Number Placeholder 5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5D3D5-263A-4FE3-BB4A-0DC1F3AA1E2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Vilijem Kulen (1710-1790) daje sintezu dotadašnjih psihijatrijskih saznanja i objavljuje 1785 godine svoju medicinsku nozologiju (klasifikaciju mentalnih oboljenja). Kulen prvi upotrebljava termin neuroza i pridev neurotiča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24000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7T07:24:00Z</dcterms:created>
  <dc:creator>PROXIMA-1</dc:creator>
  <dc:description/>
  <dc:language>en-US</dc:language>
  <cp:lastModifiedBy>nmuric91@gmail.com</cp:lastModifiedBy>
  <dcterms:modified xsi:type="dcterms:W3CDTF">2020-10-01T10:59:23Z</dcterms:modified>
  <cp:revision>31</cp:revision>
  <dc:subject/>
  <dc:title>UVOD U PSIHIJATRIJU</dc:title>
</cp:coreProperties>
</file>